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9AD-0827-49BD-9090-A080DC31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605-5FBF-4C15-83CE-54685E61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9E8-0B1D-49F6-ACD8-3A85DCEA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6CC-7AD9-43DF-AF4F-934B3B9E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D096-6092-423A-A7DD-7C8EB032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D3EF-3BA3-44E7-9E9F-6BFC5F09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80A5-6C0D-45CE-A984-B93FDAD7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6018-DEDD-4D1D-800C-836E65A3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A264-7930-4189-8A1B-6B88F3DB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804E-0B26-4C46-A9BC-89402FA4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73B1-78EA-44FD-A135-83B82087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A65-D98A-46D0-BBDE-0C9F5608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F24B-E78C-4A04-8F91-ACF57E9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3EDA-ACE6-45CD-AA6F-44B5D95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BB2B-7F3D-41C5-BFF6-3B3D929B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0C19-1E1D-4470-A16C-DF66A50B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F56B-A6FA-4C64-A951-37A7BCF7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D206B-7218-46D6-81AA-81B78C5C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68E3-4734-4CB8-B0AB-B7E5D7A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DD4C-DB29-4677-8901-C9DB62A5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4B98-A8E4-4FD1-B3BA-0AD92464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9EAC-9012-4776-8C31-FEBC7E7B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6D5-C025-47B2-9E34-A95A7AAF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8083-0633-44BF-A14A-E6156E6A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9F85-8E9B-4928-A61B-1EBAF712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35B5-2CA3-4B1B-B188-57DD7E41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61757-FE92-4353-A3C0-EFC0BA8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36EF1-C147-49A9-A765-A29BBE80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2EB8-2E09-4427-B877-6C7EB20D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A38D-EEC9-47FA-A880-0FF661BE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22039-CE0F-465C-9D72-81443DD0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D6E21-BD59-4C35-AE19-E8ADB25B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D8F25-7C3D-48BE-BC39-5A886619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C3D-BE85-48E6-9B2F-A50F6C4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E6AB1-18B7-44A0-956F-9294A70E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1D3DE-FA20-4132-9BF3-2340F45E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22B92-F20A-4E41-86E6-4EA11797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9AA44-4471-4F79-8D0C-D5DE57A4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835E0-57E6-462E-B0C1-C20E48B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F330A-0966-4C46-8D83-F6F43EDB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B7249-A00E-4732-A0EF-B2A90FA0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63C65-4C75-4EB6-80B0-D68C5175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8D36F-7A75-4A8D-8522-C98B55EC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7CD38-44C5-4C9E-ACFB-5C12C2EB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1AC-AE00-41D7-A436-2928EB78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C56AD-5C84-4C48-9280-D8FAFDEF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9A08-E7AB-49CA-B565-FC107EB4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C8B0-4168-44EC-BF88-4D1263DB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FDD9-C4A6-4D26-84A3-50DECA04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46B19-DE40-470B-87BE-588BC53C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3E797-571B-4EF9-9B69-5D63586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3DFB-E6CA-4FAA-A7A2-4067490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9469-F3D9-4B2C-84AF-F78FF3A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1428-8826-427C-AEEC-DFA3A13B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26D5A-D217-468F-9317-B9CDAC26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8E7-FCFF-41E8-B453-4B42B20F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EC84C-D9D8-4ADB-9BB0-4E6D1060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A1B-390F-4288-8C79-88DE7C4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7A8-880A-43A2-8E2A-1A1F2077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97D-322A-41F0-8D5E-643838B9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CD80-F48D-4C78-AB8D-10B5DD353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6C9C-322E-428B-9860-81C3BE8EF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4C1-9ED7-48AA-B5C8-972A3C601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C685-D5AE-4709-A602-4A81EEE6C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E22E-94C9-4A66-B2A4-BEFCDFFEB4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15000" spc="-1" strike="noStrike">
                <a:solidFill>
                  <a:srgbClr val="dfd293"/>
                </a:solidFill>
                <a:latin typeface="Arial Black"/>
              </a:rPr>
              <a:t>WOR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C:\Documents and Settings\Owner\Local Settings\Temporary Internet Files\Content.IE5\0ZRNYSP1\MC900299717[1].wmf"/>
          <p:cNvPicPr/>
          <p:nvPr/>
        </p:nvPicPr>
        <p:blipFill>
          <a:blip r:embed="rId1"/>
          <a:stretch/>
        </p:blipFill>
        <p:spPr>
          <a:xfrm>
            <a:off x="7086600" y="4952880"/>
            <a:ext cx="1819440" cy="1603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C:\Documents and Settings\Owner\Local Settings\Temporary Internet Files\Content.IE5\977BHTOA\MC900301310[1].wmf"/>
          <p:cNvPicPr/>
          <p:nvPr/>
        </p:nvPicPr>
        <p:blipFill>
          <a:blip r:embed="rId2"/>
          <a:stretch/>
        </p:blipFill>
        <p:spPr>
          <a:xfrm>
            <a:off x="4114800" y="3581280"/>
            <a:ext cx="1666800" cy="1817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Documents and Settings\Owner\Local Settings\Temporary Internet Files\Content.IE5\H10TUJFZ\MC900446010[1].wmf"/>
          <p:cNvPicPr/>
          <p:nvPr/>
        </p:nvPicPr>
        <p:blipFill>
          <a:blip r:embed="rId3"/>
          <a:stretch/>
        </p:blipFill>
        <p:spPr>
          <a:xfrm>
            <a:off x="533520" y="4267080"/>
            <a:ext cx="1771560" cy="154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C:\Documents and Settings\Owner\Local Settings\Temporary Internet Files\Content.IE5\LWGZ1XC9\MC900301308[1].wmf"/>
          <p:cNvPicPr/>
          <p:nvPr/>
        </p:nvPicPr>
        <p:blipFill>
          <a:blip r:embed="rId4"/>
          <a:stretch/>
        </p:blipFill>
        <p:spPr>
          <a:xfrm>
            <a:off x="7467480" y="0"/>
            <a:ext cx="1470240" cy="1812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C:\Documents and Settings\Owner\Local Settings\Temporary Internet Files\Content.IE5\1K9XBDPV\MC900446008[1].wmf"/>
          <p:cNvPicPr/>
          <p:nvPr/>
        </p:nvPicPr>
        <p:blipFill>
          <a:blip r:embed="rId5"/>
          <a:stretch/>
        </p:blipFill>
        <p:spPr>
          <a:xfrm>
            <a:off x="228600" y="152280"/>
            <a:ext cx="16430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coun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king income and assets of a business ov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financial stat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 business trans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and use information systems to track financial performance, tax strategy and health &amp; benefits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ShockwaveFlash1"/>
          <p:cNvGraphicFramePr/>
          <p:nvPr/>
        </p:nvGraphicFramePr>
        <p:xfrm>
          <a:off x="685800" y="533520"/>
          <a:ext cx="80010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8001000" cy="579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ShockwaveFlash1"/>
          <p:cNvGraphicFramePr/>
          <p:nvPr/>
        </p:nvGraphicFramePr>
        <p:xfrm>
          <a:off x="914400" y="609480"/>
          <a:ext cx="777096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09480"/>
                    <a:ext cx="7770960" cy="5792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managing people and resources in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tegic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ing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ing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loying human and financial assets to achieve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ing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ShockwaveFlash1"/>
          <p:cNvGraphicFramePr/>
          <p:nvPr/>
        </p:nvGraphicFramePr>
        <p:xfrm>
          <a:off x="609480" y="609480"/>
          <a:ext cx="807732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8077320" cy="5867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 activity of providing funds and capi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e f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stment ba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ShockwaveFlash1"/>
          <p:cNvGraphicFramePr/>
          <p:nvPr/>
        </p:nvGraphicFramePr>
        <p:xfrm>
          <a:off x="609480" y="457200"/>
          <a:ext cx="807876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8078760" cy="5792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 processes involved in promoting, selling, and distributing a product or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panies have a manager in charge of mark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eers in Busi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784520" y="914400"/>
            <a:ext cx="5607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What do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0" spc="-1" strike="noStrike">
                <a:solidFill>
                  <a:srgbClr val="ffffff"/>
                </a:solidFill>
                <a:latin typeface="Arial Black"/>
              </a:rPr>
              <a:t>YOU</a:t>
            </a:r>
            <a:endParaRPr b="0" lang="en-US" sz="1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Think?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990720" y="533520"/>
            <a:ext cx="7467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You’ll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probabl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pend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t least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Arial Black"/>
              </a:rPr>
              <a:t>1/3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f your life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t work 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maybe </a:t>
            </a:r>
            <a:r>
              <a:rPr b="0" i="1" lang="en-US" sz="6000" spc="-1" strike="noStrike">
                <a:solidFill>
                  <a:srgbClr val="000000"/>
                </a:solidFill>
                <a:latin typeface="Arial Black"/>
              </a:rPr>
              <a:t>1/2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685800" y="990720"/>
            <a:ext cx="7620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That’s a </a:t>
            </a:r>
            <a:r>
              <a:rPr b="0" i="1" lang="en-US" sz="8800" spc="-1" strike="noStrike">
                <a:solidFill>
                  <a:srgbClr val="ffffff"/>
                </a:solidFill>
                <a:latin typeface="Arial Black"/>
              </a:rPr>
              <a:t>major</a:t>
            </a: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investment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14400" y="1523880"/>
            <a:ext cx="70135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i="1" lang="en-US" sz="14000" spc="-1" strike="noStrike">
                <a:solidFill>
                  <a:srgbClr val="000000"/>
                </a:solidFill>
                <a:latin typeface="Arial Black"/>
              </a:rPr>
              <a:t>huge</a:t>
            </a:r>
            <a:endParaRPr b="0" lang="en-US" sz="1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investment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1334520" y="1628640"/>
            <a:ext cx="57495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o what are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 Black"/>
              </a:rPr>
              <a:t>YOU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oing to do for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 career?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2" name="Picture 6" descr="C:\Documents and Settings\Owner\Local Settings\Temporary Internet Files\Content.IE5\H10TUJFZ\dglxasset[1].aspx"/>
          <p:cNvPicPr/>
          <p:nvPr/>
        </p:nvPicPr>
        <p:blipFill>
          <a:blip r:embed="rId1"/>
          <a:stretch/>
        </p:blipFill>
        <p:spPr>
          <a:xfrm>
            <a:off x="6824520" y="4435560"/>
            <a:ext cx="2319480" cy="2422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Documents and Settings\Owner\Local Settings\Temporary Internet Files\Content.IE5\K9QNCXEJ\dglxasset[1].aspx"/>
          <p:cNvPicPr/>
          <p:nvPr/>
        </p:nvPicPr>
        <p:blipFill>
          <a:blip r:embed="rId2"/>
          <a:stretch/>
        </p:blipFill>
        <p:spPr>
          <a:xfrm>
            <a:off x="7010280" y="457200"/>
            <a:ext cx="1729080" cy="1682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C:\Documents and Settings\Owner\Local Settings\Temporary Internet Files\Content.IE5\RF9ZQ9PN\dglxasset[1].aspx"/>
          <p:cNvPicPr/>
          <p:nvPr/>
        </p:nvPicPr>
        <p:blipFill>
          <a:blip r:embed="rId3"/>
          <a:stretch/>
        </p:blipFill>
        <p:spPr>
          <a:xfrm>
            <a:off x="304920" y="480060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854360" y="1143000"/>
            <a:ext cx="52146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Thinking 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about 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Arial Black"/>
              </a:rPr>
              <a:t>Business </a:t>
            </a: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6" name="Picture 5" descr="C:\Documents and Settings\Owner\Local Settings\Temporary Internet Files\Content.IE5\LG3Y5YJH\dglxasset[1].aspx"/>
          <p:cNvPicPr/>
          <p:nvPr/>
        </p:nvPicPr>
        <p:blipFill>
          <a:blip r:embed="rId1"/>
          <a:stretch/>
        </p:blipFill>
        <p:spPr>
          <a:xfrm>
            <a:off x="762120" y="380880"/>
            <a:ext cx="1874880" cy="1689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Documents and Settings\Owner\Local Settings\Temporary Internet Files\Content.IE5\E27L6KVT\dglxasset[1].aspx"/>
          <p:cNvPicPr/>
          <p:nvPr/>
        </p:nvPicPr>
        <p:blipFill>
          <a:blip r:embed="rId2"/>
          <a:stretch/>
        </p:blipFill>
        <p:spPr>
          <a:xfrm>
            <a:off x="7086600" y="1219320"/>
            <a:ext cx="171612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035080" y="1346040"/>
            <a:ext cx="507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Let’s take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look …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Picture 7" descr="C:\Documents and Settings\Owner\Local Settings\Temporary Internet Files\Content.IE5\IZIZQ9MF\dglxasset[1].aspx"/>
          <p:cNvPicPr/>
          <p:nvPr/>
        </p:nvPicPr>
        <p:blipFill>
          <a:blip r:embed="rId1"/>
          <a:stretch/>
        </p:blipFill>
        <p:spPr>
          <a:xfrm>
            <a:off x="228600" y="2286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Documents and Settings\Owner\Local Settings\Temporary Internet Files\Content.IE5\6L7S58RI\dglxasset[1].aspx"/>
          <p:cNvPicPr/>
          <p:nvPr/>
        </p:nvPicPr>
        <p:blipFill>
          <a:blip r:embed="rId2"/>
          <a:stretch/>
        </p:blipFill>
        <p:spPr>
          <a:xfrm>
            <a:off x="5943600" y="3505320"/>
            <a:ext cx="2986200" cy="3009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C:\Documents and Settings\Owner\Local Settings\Temporary Internet Files\Content.IE5\B3XJVXGW\MC900352723[1].wmf"/>
          <p:cNvPicPr/>
          <p:nvPr/>
        </p:nvPicPr>
        <p:blipFill>
          <a:blip r:embed="rId3"/>
          <a:stretch/>
        </p:blipFill>
        <p:spPr>
          <a:xfrm>
            <a:off x="380880" y="3276720"/>
            <a:ext cx="160020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eers in Bus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ShockwaveFlash1"/>
          <p:cNvGraphicFramePr/>
          <p:nvPr/>
        </p:nvGraphicFramePr>
        <p:xfrm>
          <a:off x="609480" y="380880"/>
          <a:ext cx="8307360" cy="62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307360" cy="6249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20:08Z</dcterms:created>
  <dc:creator>HP Authorized Customer</dc:creator>
  <dc:description/>
  <dc:language>en-US</dc:language>
  <cp:lastModifiedBy>HP Authorized Customer</cp:lastModifiedBy>
  <dcterms:modified xsi:type="dcterms:W3CDTF">2010-04-28T04:31:06Z</dcterms:modified>
  <cp:revision>21</cp:revision>
  <dc:subject/>
  <dc:title>       WORK</dc:title>
</cp:coreProperties>
</file>